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CB78-846C-44C7-BAEC-F33380AD97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D60-3156-4BB0-A951-EBD06ECF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E7F-929E-472D-89FF-02411DE3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839-AFB3-456C-8929-6D537F71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C96-3D00-4B7F-89BB-240F0FBD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1375-EDCD-47CA-A3D7-E29AF0BB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97C5-6EDD-4FDF-AAD7-EA94250B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CB3F-5444-48B4-A4BA-95EC3D6F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9149-DD06-48A5-A27B-B7B31607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0D4E-2675-4D30-9930-1C39F22F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5633-46CD-4119-B898-DE7E59C6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DBB5-E2BA-4AE2-B73D-BF8924D3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847-2F43-4B65-B681-36F33E83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47A7-E94D-47D3-8A43-2B7866F2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171D-502D-4EBF-BB30-D8931342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E4CB-5AA7-4C1E-AC87-76E5DF2B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5E7A-C88C-4D7D-8CFD-614E0C9B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AEF6-0A2A-4FA3-91A7-BA02838A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BC2-C95E-4C10-B5EC-A8A38244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CDC-E863-41D3-BA86-F5A0A2E3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A80-27CF-4F8F-A9C8-3C1E8361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FE6-BAE7-4730-983F-B46B1E77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C8F-CEFC-4BDA-9DF7-1D2B5E1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475-9B7F-4888-A2A6-2E807E40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89B-54D5-4601-BD96-FDDFC30F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92AE-96EE-4108-A699-07628883722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7269-5AA0-4F90-AA09-DAEDFD21C2C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LEGION</cp:lastModifiedBy>
  <dcterms:modified xsi:type="dcterms:W3CDTF">2017-07-03T11:24:00Z</dcterms:modified>
  <cp:revision>11</cp:revision>
  <dc:subject>Lincoln and the Emancipation Proclamation</dc:subject>
  <dc:title>Lincoln and the Emancipation Proclamation</dc:title>
</cp:coreProperties>
</file>